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0A5D-3262-4B12-BD18-7433AE07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297E-3698-412B-964E-0A1EED07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eachmelife.wordpress.com/2012/04/05/teach-me-bala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spired by Soha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Powerpoint yesterda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A4E1-03FD-470C-B14C-64AEFFB0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freewebs.com/sandra02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413-4033-4DE8-8A27-DD72F3D2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grimayne.com/econ/AllocatingRationing/PriceAndFeedbac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965-C191-4ADF-9898-93016741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espmc1.vub.ac.be/feedback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7A29-FDE1-4C07-A8FA-EA1A4FDA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files.fieldofscience.com/2011_01_01_archiv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2AE-C6DE-489D-9560-D6C4ECCD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knowledge/library/homeostatic-processes-for-thermoregulation-235920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lot of energy to maintain constant internal body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5CA-1119-4077-8B5B-33317609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E20-2372-4E44-B223-51DD104D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ECC2-52F3-497A-A378-B788BF4E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B96-B4A4-4527-8630-42835F7C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C42-43C6-4739-8E14-B5951AE9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liesyoungwomenbelieve.com/index.php?id=35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725-C146-4360-BB79-B20A5BAD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alvarez1.edublogs.org/category/uncategorized/page/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dy systems interact to maintain homeosta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rvous system: receives sensory information from environment, and transmits sig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e body to regulate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retory system: rids body of waste and maintains clean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docrine system: regulates levels of essential hormo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latory system: carries hormones &amp; other chemicals, and distributes heat throughou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mune system: protects body from and fights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gestive system: liver controls amino acid levels, detoxifies harmful substances, manufactures blood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gumentary system: important for maintaining constant body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8FD-C460-42CF-9255-2157D8F4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isescience.co.uk/2010/schools/ilford/abhomeostasis.as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FCF7-31C3-4841-9B3C-498A9038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revisescience.co.uk/2010/schools/ilford/abhomeostasis.asp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62E1-8AB2-4A85-A993-366A7A7D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schoolworkhelper.net/2010/07/thermoregula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5018-A89C-44A1-9FBB-49B49C95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FAB-BC60-4B17-AF56-0728B3C0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8DB-9B5A-40E7-BB13-749E3AD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6AF-EAF1-46E8-9DF0-013441F5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4BF-7013-4447-A356-4C66DE47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550-92F8-4F69-AFBC-E50E81CA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0EE-E845-4ECD-AC70-64074AC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4FE-AB01-45AC-9F14-5E4053ED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7BA-720A-4C66-A750-E27AC1A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19C-FDAC-4397-A2FD-5D13E28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903-AC2C-465F-B7EC-62758A7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00E-6716-491F-A8B6-FBD8A5E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6C1-4409-4831-AE2C-3D32744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E2F-1151-4622-BFCB-AB5453024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Feedback_loop"/>
          <p:cNvPicPr/>
          <p:nvPr/>
        </p:nvPicPr>
        <p:blipFill>
          <a:blip r:embed="rId1"/>
          <a:stretch/>
        </p:blipFill>
        <p:spPr>
          <a:xfrm>
            <a:off x="1665360" y="609480"/>
            <a:ext cx="5811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integrator (coordinating centre)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detect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than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igure6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MacroscFig54"/>
          <p:cNvPicPr/>
          <p:nvPr/>
        </p:nvPicPr>
        <p:blipFill>
          <a:blip r:embed="rId1"/>
          <a:stretch/>
        </p:blipFill>
        <p:spPr>
          <a:xfrm>
            <a:off x="685800" y="2278080"/>
            <a:ext cx="7772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omeostasis-pregnancy-positive-feedback"/>
          <p:cNvPicPr/>
          <p:nvPr/>
        </p:nvPicPr>
        <p:blipFill>
          <a:blip r:embed="rId1"/>
          <a:stretch/>
        </p:blipFill>
        <p:spPr>
          <a:xfrm>
            <a:off x="685800" y="2084400"/>
            <a:ext cx="77724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therm vs. Poikiloth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akin_1_2"/>
          <p:cNvPicPr/>
          <p:nvPr/>
        </p:nvPicPr>
        <p:blipFill>
          <a:blip r:embed="rId1"/>
          <a:srcRect l="-39459" t="0" r="-3945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toth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ternal environment to regulate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nvertebrates, fish, amphibians,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al &amp; some physiological mechanisms allow ectotherms to remain somewhat home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nal mechanisms to regulate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birds,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p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be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behavioural mechanisms that help endotherms to survive in harsh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 - 9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 are constantly adjusting to changes in the external environment to maintain a constant internal environment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 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glucose level:  0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H:  7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levels, blood pressure &amp; flow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uman body"/>
          <p:cNvPicPr/>
          <p:nvPr/>
        </p:nvPicPr>
        <p:blipFill>
          <a:blip r:embed="rId1"/>
          <a:stretch/>
        </p:blipFill>
        <p:spPr>
          <a:xfrm>
            <a:off x="1038240" y="1981080"/>
            <a:ext cx="310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ody_Systems1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tic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40x9homeostasis-control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ion of body temperature by negative feedback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importa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oth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40x9homeostasis-control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hermoregulation-feedback"/>
          <p:cNvPicPr/>
          <p:nvPr/>
        </p:nvPicPr>
        <p:blipFill>
          <a:blip r:embed="rId1"/>
          <a:stretch/>
        </p:blipFill>
        <p:spPr>
          <a:xfrm>
            <a:off x="1411200" y="609480"/>
            <a:ext cx="632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s signal integrator (coordinating centre)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er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detecte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igure6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0:22Z</dcterms:created>
  <dc:creator>rubina khan</dc:creator>
  <dc:description/>
  <dc:language>en-US</dc:language>
  <cp:lastModifiedBy>rubina khan</cp:lastModifiedBy>
  <dcterms:modified xsi:type="dcterms:W3CDTF">2017-04-20T18:21:31Z</dcterms:modified>
  <cp:revision>123</cp:revision>
  <dc:subject/>
  <dc:title>Chapter 7 - Maintaining an Internal Balance</dc:title>
</cp:coreProperties>
</file>